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0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009-7C51-4401-A0C6-3554B2C5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7E4-BAFD-4A60-955E-86571F56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753-37A7-4224-9A99-E0FFE5AE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520-095A-44DB-95DF-781424C2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15E-D48D-44DB-8276-AF4C128F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6FB-87B1-448D-B516-4614DB7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546-E64A-41B6-8F9E-3388264F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9DB-608C-4DD5-87B1-6147917F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70F-93C8-4202-862A-DEDB7F8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BB2-10A0-40FF-A3EF-DF82F1B5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43D-3F13-4562-94A3-7D19AD12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040-1889-4C6A-B585-D53441F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BB0-1879-462C-A645-0D7C92EA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1.xml"/><Relationship Id="rId3" Type="http://schemas.openxmlformats.org/officeDocument/2006/relationships/slide" Target="slide103.xml"/><Relationship Id="rId4" Type="http://schemas.openxmlformats.org/officeDocument/2006/relationships/slide" Target="slide105.xml"/><Relationship Id="rId5" Type="http://schemas.openxmlformats.org/officeDocument/2006/relationships/slide" Target="slide107.xml"/><Relationship Id="rId6" Type="http://schemas.openxmlformats.org/officeDocument/2006/relationships/slide" Target="slide3.xml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slide" Target="slide12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4.xml"/><Relationship Id="rId7" Type="http://schemas.openxmlformats.org/officeDocument/2006/relationships/slide" Target="slide20.xml"/><Relationship Id="rId8" Type="http://schemas.openxmlformats.org/officeDocument/2006/relationships/slide" Target="slide19.xml"/><Relationship Id="rId9" Type="http://schemas.openxmlformats.org/officeDocument/2006/relationships/slide" Target="slide24.xml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7.xml"/><Relationship Id="rId3" Type="http://schemas.openxmlformats.org/officeDocument/2006/relationships/slide" Target="slide31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.xml"/><Relationship Id="rId7" Type="http://schemas.openxmlformats.org/officeDocument/2006/relationships/image" Target="../media/image4.gif"/><Relationship Id="rId8" Type="http://schemas.openxmlformats.org/officeDocument/2006/relationships/slide" Target="slide29.xml"/><Relationship Id="rId9" Type="http://schemas.openxmlformats.org/officeDocument/2006/relationships/slide" Target="slide39.xml"/><Relationship Id="rId10" Type="http://schemas.openxmlformats.org/officeDocument/2006/relationships/slide" Target="slide41.xml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6.xml"/><Relationship Id="rId3" Type="http://schemas.openxmlformats.org/officeDocument/2006/relationships/slide" Target="slide48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4.xml"/><Relationship Id="rId7" Type="http://schemas.openxmlformats.org/officeDocument/2006/relationships/slide" Target="slide56.xm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60.xml"/><Relationship Id="rId3" Type="http://schemas.openxmlformats.org/officeDocument/2006/relationships/slide" Target="slide62.xml"/><Relationship Id="rId4" Type="http://schemas.openxmlformats.org/officeDocument/2006/relationships/slide" Target="slide64.xml"/><Relationship Id="rId5" Type="http://schemas.openxmlformats.org/officeDocument/2006/relationships/slide" Target="slide66.xml"/><Relationship Id="rId6" Type="http://schemas.openxmlformats.org/officeDocument/2006/relationships/slide" Target="slide68.xml"/><Relationship Id="rId7" Type="http://schemas.openxmlformats.org/officeDocument/2006/relationships/slide" Target="slide7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5.xml"/><Relationship Id="rId3" Type="http://schemas.openxmlformats.org/officeDocument/2006/relationships/slide" Target="slide77.xml"/><Relationship Id="rId4" Type="http://schemas.openxmlformats.org/officeDocument/2006/relationships/slide" Target="slide79.xml"/><Relationship Id="rId5" Type="http://schemas.openxmlformats.org/officeDocument/2006/relationships/slide" Target="slide81.xml"/><Relationship Id="rId6" Type="http://schemas.openxmlformats.org/officeDocument/2006/relationships/slide" Target="slide85.xml"/><Relationship Id="rId7" Type="http://schemas.openxmlformats.org/officeDocument/2006/relationships/slide" Target="slide83.xml"/><Relationship Id="rId8" Type="http://schemas.openxmlformats.org/officeDocument/2006/relationships/slide" Target="slide3.xml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wmf"/><Relationship Id="rId3" Type="http://schemas.openxmlformats.org/officeDocument/2006/relationships/slide" Target="slide88.xml"/><Relationship Id="rId4" Type="http://schemas.openxmlformats.org/officeDocument/2006/relationships/slide" Target="slide90.xml"/><Relationship Id="rId5" Type="http://schemas.openxmlformats.org/officeDocument/2006/relationships/slide" Target="slide92.xml"/><Relationship Id="rId6" Type="http://schemas.openxmlformats.org/officeDocument/2006/relationships/slide" Target="slide94.xml"/><Relationship Id="rId7" Type="http://schemas.openxmlformats.org/officeDocument/2006/relationships/slide" Target="slide96.xml"/><Relationship Id="rId8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56000" y="0"/>
            <a:ext cx="658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нтеллектуальная игра по произведениям, посвящённы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еликой Отечественной вой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51664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У «СОШ № 3 г. Коряжмы»           2010 го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4" descr="Профессор"/>
          <p:cNvPicPr/>
          <p:nvPr/>
        </p:nvPicPr>
        <p:blipFill>
          <a:blip r:embed="rId1"/>
          <a:stretch/>
        </p:blipFill>
        <p:spPr>
          <a:xfrm>
            <a:off x="0" y="0"/>
            <a:ext cx="3344760" cy="3716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393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В. Богомолов «Иван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М. Шолохов «Судьба человека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wmpaud1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67546 C -0.16337 -0.66504 -0.13177 -0.65439 -0.09462 -0.6456 C -0.05781 -0.63703 -0.0026 -0.63912 0.02674 -0.62314 C 0.05573 -0.60787 0.07465 -0.57638 0.08073 -0.55023 C 0.08681 -0.52453 0.08143 -0.4875 0.06372 -0.46736 C 0.04566 -0.44814 -0.00156 -0.4412 -0.02726 -0.4331 C -0.05312 -0.42546 -0.06215 -0.42476 -0.09114 -0.42083 C -0.12014 -0.41713 -0.18229 -0.42777 -0.20087 -0.41088 C -0.21944 -0.39375 -0.23333 -0.33773 -0.20278 -0.3199 C -0.17187 -0.30185 -0.06232 -0.30648 -0.0151 -0.3037 C 0.03212 -0.30092 0.06736 -0.31759 0.07969 -0.3037 C 0.09254 -0.28958 0.08785 -0.23796 0.05903 -0.21851 C 0.02986 -0.19953 -0.04878 -0.19537 -0.09357 -0.18819 C -0.13854 -0.18101 -0.19705 -0.19629 -0.21024 -0.1743 C -0.22378 -0.15185 -0.20937 -0.08379 -0.17448 -0.05486 C -0.13941 -0.02569 -0.06962 -0.01296 -1.66667E-006 -4.44444E-006 E">
                                      <p:cBhvr>
                                        <p:cTn id="8" dur="8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92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96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92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96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925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71640" y="907920"/>
            <a:ext cx="720072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Языковые средст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</p:txBody>
      </p:sp>
      <p:sp>
        <p:nvSpPr>
          <p:cNvPr id="109" name="Oval 3">
            <a:hlinkClick r:id="rId1" action="ppaction://hlinksldjump"/>
          </p:cNvPr>
          <p:cNvSpPr/>
          <p:nvPr/>
        </p:nvSpPr>
        <p:spPr>
          <a:xfrm>
            <a:off x="324000" y="278136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4">
            <a:hlinkClick r:id="rId2" action="ppaction://hlinksldjump"/>
          </p:cNvPr>
          <p:cNvSpPr/>
          <p:nvPr/>
        </p:nvSpPr>
        <p:spPr>
          <a:xfrm>
            <a:off x="1116000" y="3860640"/>
            <a:ext cx="1513080" cy="15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5">
            <a:hlinkClick r:id="rId3" action="ppaction://hlinksldjump"/>
          </p:cNvPr>
          <p:cNvSpPr/>
          <p:nvPr/>
        </p:nvSpPr>
        <p:spPr>
          <a:xfrm>
            <a:off x="2627280" y="4941720"/>
            <a:ext cx="1728720" cy="170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6">
            <a:hlinkClick r:id="rId4" action="ppaction://hlinksldjump"/>
          </p:cNvPr>
          <p:cNvSpPr/>
          <p:nvPr/>
        </p:nvSpPr>
        <p:spPr>
          <a:xfrm>
            <a:off x="5364000" y="4724280"/>
            <a:ext cx="2016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7">
            <a:hlinkClick r:id="rId5" action="ppaction://hlinksldjump"/>
          </p:cNvPr>
          <p:cNvSpPr/>
          <p:nvPr/>
        </p:nvSpPr>
        <p:spPr>
          <a:xfrm>
            <a:off x="6659640" y="2492280"/>
            <a:ext cx="2089080" cy="194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8" descr="j023633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3640" y="1989000"/>
            <a:ext cx="2519280" cy="2451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Он ныряет в темнот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ва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4" dur="65500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Играть со мной в молчанку тебе не удастс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»ИВА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минута.mp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0" dur="65500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Фразеолог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ИГРАТЬ В МОЛЧАНКУ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(молчанки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)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отмалчиваться, уклоняться от разговор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»Чужой, но ставший мне близким человек поднялся, протянул большую, твёрдую, как дерево, рук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65500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»Тут главное, чтобы он не увидел, как бежит по твоей щеке жгучая и скупая мужская слез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65500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1692360" y="1628640"/>
            <a:ext cx="57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ЭПИТЕТЫ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11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5"/>
          <p:cNvGraphicFramePr/>
          <p:nvPr/>
        </p:nvGraphicFramePr>
        <p:xfrm>
          <a:off x="112680" y="138240"/>
          <a:ext cx="8505720" cy="5667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38240"/>
                    <a:ext cx="850572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ова тема повести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Богомолова «ИВАН»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23493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) Великая Отечественная вой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) Подвиг разведчиков на войн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) Подвиг двенадцатилетнего разведчика и его трагическая судьб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) Подвиг  детей  на  войн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655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981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двиг двенадцатилетнего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азведчика и его трагическая  судьб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91440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. Богомолов писал, что во время войны у каждого из его героев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«не состоялось что-то очень важное, большое и неповторимое. Например, у двенадцатилетнего Ивана Буслова не состоялось…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акое слово пропущен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655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79280" y="2205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ДЕТСТВО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260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 судьбах каких героев рассказа «Судьба человека» отразилась тема  одиночества, сиротст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655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9144000" cy="68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нюшка, Андрей и Ирина Соколов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руглой сиротой была Иринка, воспитывавшаяся в детском дом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ани отец погиб на фронте, а мать была убита в поезде, при бомбёжке, на глазах у мальчи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дрей Соколов трижды оставался один. В голодном 1922 году умерли от голода его отец, мать и сестрёнка: »Родни - хоть шаром покати, - нигде, никого, ни одной души». Второй раз Соколов «остался один», когда узнал о гибели своей семьи в Воронеже в 1942г. В третий раз он почувствовал себя одиноким, похоронив «в чужой, немецкой земле последнюю свою радость и надежду» - нашедшегося было сына Анатолия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2602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Стал я собираться с духом, чтобы глянуть в дырку пистолета бесстрашно, как подобает солдату, чтобы враги не увидели в последнюю мою минуту, что мне с жизнью расставаться всё-таки трудно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ая черта русского национального характера раскрыта в этом эпизод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655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826920" y="1773360"/>
            <a:ext cx="7704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АМООБЛАДА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ВОЛЯ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468360" y="765000"/>
            <a:ext cx="82296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Этапы</a:t>
            </a:r>
            <a:endParaRPr b="1" lang="en-US" sz="80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игры</a:t>
            </a:r>
            <a:endParaRPr b="1" lang="en-US" sz="80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61920"/>
            <a:ext cx="914400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Захотелось мне им, проклятым, показать, что хотя я и с голоду пропадаю, но давиться ихней подачкой не собираюсь, что у меня есть …и ... и  что в скотину они меня не превратили, как ни старались»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слова, характеризующие  черты русского национального характера, пропущены в отрыв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655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71640" y="333360"/>
            <a:ext cx="7632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Захотелось мне им, проклятым, показать, что хотя я и с голоду пропадаю, но давиться ихней подачкой не собираюсь, что у меня есть своё, русское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о и гордость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и что в скотину они меня не превратили, как ни старались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260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то общего между произведениями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Богомолова «ИВАН» и  «СУДЬБОЙ ЧЕЛОВЕКА» М. Шолохо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655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60280"/>
            <a:ext cx="914400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Иван   из повест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. Богомолова хватил такого лиха, что его судьбу по невыносимой тяжести испытаний можно сравнить с судьбой Андрея Соколова»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(А. Огнев, исследователь творчества М.Шолохова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60280"/>
            <a:ext cx="914400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Не бывать тому, чтоб нам порознь пропадать! Возьму его к себе в дети»,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ак рассуждал А.Соколов, решивший усыновить  мальчика-сироту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Какую черту русского национального характера раскрыл М.Шолохов в образе Андре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655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549360"/>
            <a:ext cx="8137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Милосердие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гуманизм)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539640" y="0"/>
            <a:ext cx="8353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знай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ро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476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ичико всё в арбузном соку, покрытом пылью, грязный, как прах, нечёсаный, а глазёнки – как звёздочки ночью после дождя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655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24000" y="620640"/>
            <a:ext cx="806436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АНЮШКА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 единой слезинки не увидел в его словно бы мёртвых, потухших глазах. Он сидел, понуро склонив голову, только большие, безвольно опущенные руки мелко дрожали, дрожал подбородок, дрожали твёрдые губы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655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Темы, идеи, проблемы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3">
            <a:hlinkClick r:id="rId2" action="ppaction://hlinksldjump"/>
          </p:cNvPr>
          <p:cNvSpPr/>
          <p:nvPr/>
        </p:nvSpPr>
        <p:spPr>
          <a:xfrm>
            <a:off x="324000" y="4941720"/>
            <a:ext cx="835164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ЮЖЕТ, КОМПОЗИ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4">
            <a:hlinkClick r:id="rId3" action="ppaction://hlinksldjump"/>
          </p:cNvPr>
          <p:cNvSpPr/>
          <p:nvPr/>
        </p:nvSpPr>
        <p:spPr>
          <a:xfrm>
            <a:off x="395280" y="981000"/>
            <a:ext cx="8207280" cy="86364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Узнай геро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5">
            <a:hlinkClick r:id="rId4" action="ppaction://hlinksldjump"/>
          </p:cNvPr>
          <p:cNvSpPr/>
          <p:nvPr/>
        </p:nvSpPr>
        <p:spPr>
          <a:xfrm>
            <a:off x="179280" y="2060640"/>
            <a:ext cx="878544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НАЕТЕ ЛИ  ВЫ ТЕКСТ РАССКАЗ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6">
            <a:hlinkClick r:id="rId5" action="ppaction://hlinksldjump"/>
          </p:cNvPr>
          <p:cNvSpPr/>
          <p:nvPr/>
        </p:nvSpPr>
        <p:spPr>
          <a:xfrm>
            <a:off x="468360" y="6066000"/>
            <a:ext cx="82072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ЯЗЫКОВЫЕ СРЕДСТ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7">
            <a:hlinkClick r:id="rId6" action="ppaction://hlinksldjump"/>
          </p:cNvPr>
          <p:cNvSpPr/>
          <p:nvPr/>
        </p:nvSpPr>
        <p:spPr>
          <a:xfrm>
            <a:off x="179280" y="3933720"/>
            <a:ext cx="871380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Речевая характеристик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9">
            <a:hlinkClick r:id="rId7" action="ppaction://hlinksldjump"/>
          </p:cNvPr>
          <p:cNvSpPr/>
          <p:nvPr/>
        </p:nvSpPr>
        <p:spPr>
          <a:xfrm>
            <a:off x="179280" y="2997360"/>
            <a:ext cx="878544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НАЕТЕ ЛИ  ВЫ ТЕКСТ ПОВЕ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95280" y="0"/>
            <a:ext cx="8064360" cy="65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НДРЕЙ СОКОЛОВ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енький, пузатый, что в ширину, что в длину одинаковый и в заду плечистый, как справная баба. Спереди у него под воротником мундира три подбородка висят и позади на шее три толстых склад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655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24000" y="0"/>
            <a:ext cx="8064360" cy="65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ЕМЕЦ- ИНЖЕНЕР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415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Ему за 30, он невысок и худощав. Рот маленький, с короткой верхней губой, нос небольшой, приплюснутый,  с крохотными ноздрями, глазки голубовато-серые, живые. Симпатичным, выражающим кротость лицом  походит на кролика. Он скромен, тих и неприметен. Говорит, заметно шепелявя, - может, поэтому стеснителен и на людях молчалив. Не зная, трудно представить, что это один из лучших в нашей армии охотников за «языками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минута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55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24000" y="620640"/>
            <a:ext cx="80643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Катасоныч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весть «Иван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408600"/>
            <a:ext cx="88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Смирная, весёлая, угодливая и умница… Она с детства узнала, почём фунт лиха стоит…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655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0"/>
            <a:ext cx="914400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рина, на которой женился  А. Соколо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78732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высокого роста, плотный, белобрысый и сам весь какой-то белый: и волосы на голове белые, и брови, и ресницы, даже глаза у него были белёсые, навыкате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65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4648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МЮЛЛЕР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ослый темноволосый красавец лет двадцати семи, он  ввалился  в землянку  с большим немецким чемоданом в рук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минута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65500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 rot="21053400">
            <a:off x="760320" y="552240"/>
            <a:ext cx="776772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4658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Темы, идеи, проблемы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55" name="Picture 3" descr="MOLECL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8720" y="620640"/>
            <a:ext cx="6245280" cy="6237360"/>
          </a:xfrm>
          <a:prstGeom prst="rect">
            <a:avLst/>
          </a:prstGeom>
          <a:ln w="0">
            <a:noFill/>
          </a:ln>
        </p:spPr>
      </p:pic>
      <p:sp>
        <p:nvSpPr>
          <p:cNvPr id="56" name="Oval 4">
            <a:hlinkClick r:id="rId3" action="ppaction://hlinksldjump"/>
          </p:cNvPr>
          <p:cNvSpPr/>
          <p:nvPr/>
        </p:nvSpPr>
        <p:spPr>
          <a:xfrm>
            <a:off x="324000" y="2637000"/>
            <a:ext cx="792000" cy="50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Oval 5">
            <a:hlinkClick r:id="rId4" action="ppaction://hlinksldjump"/>
          </p:cNvPr>
          <p:cNvSpPr/>
          <p:nvPr/>
        </p:nvSpPr>
        <p:spPr>
          <a:xfrm>
            <a:off x="900000" y="4221000"/>
            <a:ext cx="1079640" cy="863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6">
            <a:hlinkClick r:id="rId5" action="ppaction://hlinksldjump"/>
          </p:cNvPr>
          <p:cNvSpPr/>
          <p:nvPr/>
        </p:nvSpPr>
        <p:spPr>
          <a:xfrm>
            <a:off x="1763640" y="5013360"/>
            <a:ext cx="1224000" cy="9381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7">
            <a:hlinkClick r:id="rId6" action="ppaction://hlinksldjump"/>
          </p:cNvPr>
          <p:cNvSpPr/>
          <p:nvPr/>
        </p:nvSpPr>
        <p:spPr>
          <a:xfrm>
            <a:off x="539640" y="3357720"/>
            <a:ext cx="1008000" cy="718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8">
            <a:hlinkClick r:id="rId7" action="ppaction://hlinksldjump"/>
          </p:cNvPr>
          <p:cNvSpPr/>
          <p:nvPr/>
        </p:nvSpPr>
        <p:spPr>
          <a:xfrm>
            <a:off x="2987640" y="5734080"/>
            <a:ext cx="1224000" cy="9079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10">
            <a:hlinkClick r:id="rId8" action="ppaction://hlinksldjump"/>
          </p:cNvPr>
          <p:cNvSpPr/>
          <p:nvPr/>
        </p:nvSpPr>
        <p:spPr>
          <a:xfrm>
            <a:off x="4427640" y="5589720"/>
            <a:ext cx="1441440" cy="10522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1">
            <a:hlinkClick r:id="rId9" action="ppaction://hlinksldjump"/>
          </p:cNvPr>
          <p:cNvSpPr/>
          <p:nvPr/>
        </p:nvSpPr>
        <p:spPr>
          <a:xfrm>
            <a:off x="6084720" y="5084640"/>
            <a:ext cx="1584360" cy="1197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АПИТАН ХОЛ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овесть «Ива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177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н подошёл, рассматривая  меня настороженно-сосредоточенным  взглядом больших, необычно широко расставленных глаз. Лицо  у него было скуластое, темновато-серое от въевшейся в кожу грязи. Мокрые, неопределённого цвета волосы висели клочьями. В его взгляде, в выражении измученного, с плотно сжатыми лица чувствовалось какое-то внутреннее напряжение и,  как мне показалось, недоверие и неприязнь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минута.mp3" descr=""/>
          <p:cNvPicPr/>
          <p:nvPr/>
        </p:nvPicPr>
        <p:blipFill>
          <a:blip r:embed="rId1"/>
          <a:stretch/>
        </p:blipFill>
        <p:spPr>
          <a:xfrm>
            <a:off x="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655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1739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овесть «Иван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11280" y="765000"/>
            <a:ext cx="7777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ете ли вы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ст?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928800" y="2858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роженцем какой губернии был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Соколо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6550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755640" y="17002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оронежская губерн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611280" y="836640"/>
            <a:ext cx="778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 звали детей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Соколо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655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395280" y="126828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Анатолий, Настенька и  Олюшка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971640" y="836640"/>
            <a:ext cx="7429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колько  граммов «эрзац-хлеба пополам с опилками»  давали пленным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65500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900000" y="549360"/>
            <a:ext cx="742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000000"/>
                </a:solidFill>
                <a:uFillTx/>
                <a:latin typeface="Arial"/>
              </a:rPr>
              <a:t>150 гр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«Кормили везде, как есть, одинаково: полтораста грамм эрзац-хлеба пополам с опилками и жидкая баланда из брюквы. Кипяток – где давали, а где  нет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00000" y="907920"/>
            <a:ext cx="763272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Comic Sans MS"/>
              </a:rPr>
              <a:t>УЗНАЙ ГЕРО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Comic Sans MS"/>
              <a:ea typeface="Comic Sans MS"/>
            </a:endParaRPr>
          </a:p>
        </p:txBody>
      </p:sp>
      <p:sp>
        <p:nvSpPr>
          <p:cNvPr id="64" name="Rectangle 3">
            <a:hlinkClick r:id="rId1" action="ppaction://hlinksldjump"/>
          </p:cNvPr>
          <p:cNvSpPr/>
          <p:nvPr/>
        </p:nvSpPr>
        <p:spPr>
          <a:xfrm>
            <a:off x="1835280" y="1700280"/>
            <a:ext cx="649080" cy="8650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4">
            <a:hlinkClick r:id="rId2" action="ppaction://hlinksldjump"/>
          </p:cNvPr>
          <p:cNvSpPr/>
          <p:nvPr/>
        </p:nvSpPr>
        <p:spPr>
          <a:xfrm>
            <a:off x="7164360" y="3860640"/>
            <a:ext cx="72072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5">
            <a:hlinkClick r:id="rId3" action="ppaction://hlinksldjump"/>
          </p:cNvPr>
          <p:cNvSpPr/>
          <p:nvPr/>
        </p:nvSpPr>
        <p:spPr>
          <a:xfrm>
            <a:off x="826920" y="3860640"/>
            <a:ext cx="648000" cy="935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6">
            <a:hlinkClick r:id="rId4" action="ppaction://hlinksldjump"/>
          </p:cNvPr>
          <p:cNvSpPr/>
          <p:nvPr/>
        </p:nvSpPr>
        <p:spPr>
          <a:xfrm>
            <a:off x="1835280" y="5084640"/>
            <a:ext cx="64908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7">
            <a:hlinkClick r:id="rId5" action="ppaction://hlinksldjump"/>
          </p:cNvPr>
          <p:cNvSpPr/>
          <p:nvPr/>
        </p:nvSpPr>
        <p:spPr>
          <a:xfrm>
            <a:off x="6084720" y="5084640"/>
            <a:ext cx="649440" cy="8654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8" descr="j0236308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43280" y="2492280"/>
            <a:ext cx="3024000" cy="2757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>
            <a:hlinkClick r:id="rId8" action="ppaction://hlinksldjump"/>
          </p:cNvPr>
          <p:cNvSpPr/>
          <p:nvPr/>
        </p:nvSpPr>
        <p:spPr>
          <a:xfrm>
            <a:off x="826920" y="2708280"/>
            <a:ext cx="649440" cy="8650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10">
            <a:hlinkClick r:id="rId9" action="ppaction://hlinksldjump"/>
          </p:cNvPr>
          <p:cNvSpPr/>
          <p:nvPr/>
        </p:nvSpPr>
        <p:spPr>
          <a:xfrm>
            <a:off x="7164360" y="2781360"/>
            <a:ext cx="72072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11">
            <a:hlinkClick r:id="rId10" action="ppaction://hlinksldjump"/>
          </p:cNvPr>
          <p:cNvSpPr/>
          <p:nvPr/>
        </p:nvSpPr>
        <p:spPr>
          <a:xfrm>
            <a:off x="5940360" y="1773360"/>
            <a:ext cx="72072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7843680" y="46292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971640" y="836640"/>
            <a:ext cx="742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то росло  на поле, где «залёг на дневку» бежавший из плена Андрей Соколо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5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900000" y="155736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971640" y="836640"/>
            <a:ext cx="7429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колько километров за сутки прошёл Андрей Соколов, когда бежал из плен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5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900000" y="155736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0 км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971640" y="8366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ород, в котором встретились Андрей Соколов и Ванюшка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655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971640" y="836640"/>
            <a:ext cx="742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УРЮПИНСК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им предмето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Соколов ударил  в левый висок  немца- инжене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6550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Двухкилограмм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гир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24000" y="189000"/>
            <a:ext cx="864072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Облучив глаза красным светом сигнальных фонариков, мы идём к лодке: я впереди, мальчик шагах в пятнадцати сзади меня, ещё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альше Холи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чем разведчик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лучали глаза красным светом сигнальных фонариков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6550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395280" y="12682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Чтобы лучше видеть в темноте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642960" y="928800"/>
            <a:ext cx="7921440" cy="1830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НАЕТЕ ЛИ ВЫ ТЕКСТ РАССКАЗ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"СУДЬБА ЧЕЛОВЕКА"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250920" y="191628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1619280" y="3141720"/>
            <a:ext cx="108108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68360" y="4797360"/>
            <a:ext cx="93672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3708360" y="5445000"/>
            <a:ext cx="10810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9">
            <a:hlinkClick r:id="rId5" action="ppaction://hlinksldjump"/>
          </p:cNvPr>
          <p:cNvSpPr/>
          <p:nvPr/>
        </p:nvSpPr>
        <p:spPr>
          <a:xfrm>
            <a:off x="7380360" y="494172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10">
            <a:hlinkClick r:id="rId6" action="ppaction://hlinksldjump"/>
          </p:cNvPr>
          <p:cNvSpPr/>
          <p:nvPr/>
        </p:nvSpPr>
        <p:spPr>
          <a:xfrm>
            <a:off x="6084720" y="314172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17">
            <a:hlinkClick r:id="rId7" action="ppaction://hlinksldjump"/>
          </p:cNvPr>
          <p:cNvSpPr/>
          <p:nvPr/>
        </p:nvSpPr>
        <p:spPr>
          <a:xfrm>
            <a:off x="7451640" y="1916280"/>
            <a:ext cx="10796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9" descr=""/>
          <p:cNvPicPr/>
          <p:nvPr/>
        </p:nvPicPr>
        <p:blipFill>
          <a:blip r:embed="rId8">
            <a:lum bright="-6000"/>
          </a:blip>
          <a:srcRect l="0" t="2006" r="0" b="2966"/>
          <a:stretch/>
        </p:blipFill>
        <p:spPr>
          <a:xfrm>
            <a:off x="3059280" y="1557360"/>
            <a:ext cx="2555640" cy="324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395280" y="1125360"/>
            <a:ext cx="835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Назовите город, в котором родился Ива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655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324000" y="148428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ОМЕЛ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ерез какую реку  переправляли Ивана Холин и Гальце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655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971640" y="1341360"/>
            <a:ext cx="742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Днепр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ие две детали на спине Ивана обратил внимание Гальцев  во время первой встречи с мальчико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и же были указаны в графе «Особые приметы» немецкого документа, попавшего в руки Гальцева в конце войн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6550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0" y="18900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Большое родимое пятно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и шрам от пулевого ранения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Мы кладём  в рот по два кусочка сахару и старательно сосём их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ачем разведчики это делают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65500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79280" y="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«Это должно  до предела повысить  чувствительность наших глаз и нашего слуха»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179280" y="83664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 какой фамилией значился в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азведдокументах  Иван Бусло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6550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971640" y="134136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Бондарев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755640" y="1052640"/>
            <a:ext cx="7993080" cy="197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НАЕТЕ ЛИ ВЫ ТЕКСТ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ОВЕСТИ  "ИВАН"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4" name="Oval 3">
            <a:hlinkClick r:id="rId1" action="ppaction://hlinksldjump"/>
          </p:cNvPr>
          <p:cNvSpPr/>
          <p:nvPr/>
        </p:nvSpPr>
        <p:spPr>
          <a:xfrm>
            <a:off x="684360" y="2133720"/>
            <a:ext cx="90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4">
            <a:hlinkClick r:id="rId2" action="ppaction://hlinksldjump"/>
          </p:cNvPr>
          <p:cNvSpPr/>
          <p:nvPr/>
        </p:nvSpPr>
        <p:spPr>
          <a:xfrm>
            <a:off x="1619280" y="3500280"/>
            <a:ext cx="108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5">
            <a:hlinkClick r:id="rId3" action="ppaction://hlinksldjump"/>
          </p:cNvPr>
          <p:cNvSpPr/>
          <p:nvPr/>
        </p:nvSpPr>
        <p:spPr>
          <a:xfrm>
            <a:off x="395280" y="4653000"/>
            <a:ext cx="100800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6">
            <a:hlinkClick r:id="rId4" action="ppaction://hlinksldjump"/>
          </p:cNvPr>
          <p:cNvSpPr/>
          <p:nvPr/>
        </p:nvSpPr>
        <p:spPr>
          <a:xfrm>
            <a:off x="3780000" y="5300640"/>
            <a:ext cx="10810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9">
            <a:hlinkClick r:id="rId5" action="ppaction://hlinksldjump"/>
          </p:cNvPr>
          <p:cNvSpPr/>
          <p:nvPr/>
        </p:nvSpPr>
        <p:spPr>
          <a:xfrm>
            <a:off x="7380360" y="458136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10">
            <a:hlinkClick r:id="rId6" action="ppaction://hlinksldjump"/>
          </p:cNvPr>
          <p:cNvSpPr/>
          <p:nvPr/>
        </p:nvSpPr>
        <p:spPr>
          <a:xfrm>
            <a:off x="5651640" y="3645000"/>
            <a:ext cx="1079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Oval 17">
            <a:hlinkClick r:id="rId7" action="ppaction://hlinksldjump"/>
          </p:cNvPr>
          <p:cNvSpPr/>
          <p:nvPr/>
        </p:nvSpPr>
        <p:spPr>
          <a:xfrm>
            <a:off x="6659640" y="198900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19" descr="195"/>
          <p:cNvPicPr/>
          <p:nvPr/>
        </p:nvPicPr>
        <p:blipFill>
          <a:blip r:embed="rId8"/>
          <a:stretch/>
        </p:blipFill>
        <p:spPr>
          <a:xfrm>
            <a:off x="3132000" y="2060640"/>
            <a:ext cx="2286000" cy="2624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то, по мнению разведчиков,  считается  самым необходимым в их обмундировании при  выходе  на  другой берег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минута.mp3" descr=""/>
          <p:cNvPicPr/>
          <p:nvPr/>
        </p:nvPicPr>
        <p:blipFill>
          <a:blip r:embed="rId1"/>
          <a:stretch/>
        </p:blipFill>
        <p:spPr>
          <a:xfrm>
            <a:off x="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65500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79280" y="1413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емецкие  сапог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611280" y="765000"/>
            <a:ext cx="7777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чева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Это вас не касается. И не смейте кричать! Ваше дело – доложить, что я здесь. Остальное вас не касаетс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6550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Иван Бусл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весть «Ива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Наверно, ты неврастеник. Кончится война - придётся лечиться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65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Капитан Хол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29400" y="3478320"/>
            <a:ext cx="492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весть «Ива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одненький мой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е увидимся…мы с тобой…больше…на этом… свет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6550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4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рин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ена Андрея  Соко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 никогда не испытывал особой любви к детям, но этот мальчишка – хотя я встречался  с ним всего лишь два раза – был мне так близок и дорог, что я не мог без щемящего сердце волнения думать о нё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6550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324000" y="692280"/>
            <a:ext cx="835164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РЕЧЕВАЯ ХАРАКТЕИСТИКА ГЕРОЕВ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250920" y="1557360"/>
            <a:ext cx="11509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539640" y="2997360"/>
            <a:ext cx="122400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1258920" y="4724280"/>
            <a:ext cx="1295280" cy="119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3564000" y="544500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7">
            <a:hlinkClick r:id="rId5" action="ppaction://hlinksldjump"/>
          </p:cNvPr>
          <p:cNvSpPr/>
          <p:nvPr/>
        </p:nvSpPr>
        <p:spPr>
          <a:xfrm>
            <a:off x="5651640" y="465300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9">
            <a:hlinkClick r:id="rId6" action="ppaction://hlinksldjump"/>
          </p:cNvPr>
          <p:cNvSpPr/>
          <p:nvPr/>
        </p:nvSpPr>
        <p:spPr>
          <a:xfrm>
            <a:off x="7020000" y="1628640"/>
            <a:ext cx="1295280" cy="119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10">
            <a:hlinkClick r:id="rId7" action="ppaction://hlinksldjump"/>
          </p:cNvPr>
          <p:cNvSpPr/>
          <p:nvPr/>
        </p:nvSpPr>
        <p:spPr>
          <a:xfrm>
            <a:off x="6948360" y="3284640"/>
            <a:ext cx="1295640" cy="119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2" descr="j028413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84360" y="1341360"/>
            <a:ext cx="342432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809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Гальце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897920" y="3070080"/>
            <a:ext cx="53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Повесть «Иван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 я иду мимо. Гляжу: свой брат-шофёр загорает. Дай, думаю, зайду, перекурим вместе. Одному-то и курить и помирать тош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6550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Андрей Сокол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20-UARIOUS ARTISTS _ TIME (1 MINUTE)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6195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ой же  я старик, дядя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 вовсе мальчик, и я вовсе не замерзаю, а руки холодные – снежки катал потому ч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655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АНЮ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окажу тебе великую честь, сейчас лично расстреляю тебя за эти слова. Здесь неудобно, пойдём во двор, там ты и распишешься...Перед смертью выпей, русс Иван, за Победу немецкого  оруж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2" dur="6550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140400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МЮЛЛЕР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611280" y="476280"/>
            <a:ext cx="7777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ЮЖЕТ,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ПОЗИЦИ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те кульминацию рассказа  «Судьба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военная жизнь Андрея Сок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фашистском  пл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удачный  побег из п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  коменданта  лагеря  Мюл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ой  побег с немцем-инжен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вестие о смерти  жены и доч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похоронах сы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ыновление Ваню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6550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   коменданта  лагеря  Мюллера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324000" y="692280"/>
            <a:ext cx="8135640" cy="194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СЮЖЕТ, КОМПОЗИЦИ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02" name="Picture 3" descr="AW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1413000"/>
            <a:ext cx="748836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Oval 4">
            <a:hlinkClick r:id="rId3" action="ppaction://hlinksldjump"/>
          </p:cNvPr>
          <p:cNvSpPr/>
          <p:nvPr/>
        </p:nvSpPr>
        <p:spPr>
          <a:xfrm>
            <a:off x="0" y="256536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5">
            <a:hlinkClick r:id="rId4" action="ppaction://hlinksldjump"/>
          </p:cNvPr>
          <p:cNvSpPr/>
          <p:nvPr/>
        </p:nvSpPr>
        <p:spPr>
          <a:xfrm>
            <a:off x="324000" y="4581360"/>
            <a:ext cx="12952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6">
            <a:hlinkClick r:id="rId5" action="ppaction://hlinksldjump"/>
          </p:cNvPr>
          <p:cNvSpPr/>
          <p:nvPr/>
        </p:nvSpPr>
        <p:spPr>
          <a:xfrm>
            <a:off x="3564000" y="5734080"/>
            <a:ext cx="1297080" cy="112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7">
            <a:hlinkClick r:id="rId6" action="ppaction://hlinksldjump"/>
          </p:cNvPr>
          <p:cNvSpPr/>
          <p:nvPr/>
        </p:nvSpPr>
        <p:spPr>
          <a:xfrm>
            <a:off x="6227640" y="5229360"/>
            <a:ext cx="1152720" cy="10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8">
            <a:hlinkClick r:id="rId7" action="ppaction://hlinksldjump"/>
          </p:cNvPr>
          <p:cNvSpPr/>
          <p:nvPr/>
        </p:nvSpPr>
        <p:spPr>
          <a:xfrm>
            <a:off x="7667640" y="3573360"/>
            <a:ext cx="11872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те экспозицию рассказа  «Судьба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военная жизнь Андрея Сок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фашистском  пл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удачный  побег из п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  коменданта  лагеря  Мюл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ой  побег с немцем-инжен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вестие о смерти  жены и доч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похоронах сы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ыновление Ваню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4" dur="65500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овоенная жизнь Андрея Соко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 называется композиция рассказ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65500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ольцев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«рассказ в рассказе»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азвязку действи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 пове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Богомолова «ИВА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65500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Расстрел Ива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ая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ь повествовани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сближает  произвед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. Шолохо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 В. Богомоло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65500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обоих произведениях повествование ведё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 1 л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«Судьба человека» - от лица А.Соко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Иван» - от  лица  Гальце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611280" y="765000"/>
            <a:ext cx="7777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ЗЫКОВЫЕ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ЕДСТВА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924360" y="486900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Табак мочёный, что конь лечёный...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65500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0:35Z</dcterms:created>
  <dc:creator>методический</dc:creator>
  <dc:description/>
  <dc:language>en-US</dc:language>
  <cp:lastModifiedBy>Admin</cp:lastModifiedBy>
  <dcterms:modified xsi:type="dcterms:W3CDTF">2010-08-04T07:13:04Z</dcterms:modified>
  <cp:revision>53</cp:revision>
  <dc:subject/>
  <dc:title>Слайд 1</dc:title>
</cp:coreProperties>
</file>