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F01-4F93-45AC-A516-153F6202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4C2-433D-42A0-BC46-3BA3DECF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927F-4EDA-4EB3-8276-A315CCAB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C5D-1285-4B91-A59A-4F5D0CB8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5754-A60C-47C4-9D0C-01675015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28AF-16A1-453E-BA83-A5012E6A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C3E1-5507-4BFC-8524-5F219D39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E7E1-8CE5-4D32-A94C-BD2FF709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7093-08B2-459E-94FE-919FCF4F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376E-17BA-4C89-BAB4-A8228052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9235-89CB-4410-92B0-A47C8B46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505-89A8-40EF-A6FA-521C6C19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1AD4-75A4-4DA6-A8F5-9729DD91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A560-04BF-4644-9032-05828756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5F6E-CCED-431B-890F-1BCD6006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C36C-5BAA-453E-AE67-20E1F84D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3974-714F-4090-8219-DFD6B37A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133E8-B8DD-4157-A67B-D884ECA7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BD16F-D776-4C4E-9970-12203EB1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4D0B8-3B15-4E3D-9E97-CD60BB01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CF74E-7575-466F-AACF-E8EB346D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86234-E691-4FC6-AD01-CA19F286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878-3F17-4BB5-9075-EE92DC18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FA17D-0A35-4EF5-BCDC-9441D87E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6B546-B804-4094-BED0-45A6B12B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3CDEB-1C99-49C5-894F-7407AD60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AE2DC-F587-4A52-A40D-C2757047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17BDB-2DB0-499A-A04C-6F5FDBBE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F87E5-3DEA-4B1E-8BA3-F1E8A8B8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03E5E-2E44-4B4E-B4FF-37A4E41C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2B3-0C6B-4838-B517-D4E45739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FC1D-FEBC-40A2-9C15-4E26429A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B2B-C535-4DA7-BC2F-069C747E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63B-8321-4760-BC8C-A86CB73F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40B9-5B08-473C-A6C5-AFD3D331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36A-3F9A-4C8A-BABC-63233EFF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cc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6E71-F0CF-498E-B77B-09B30448D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9502-FEFD-43C7-8478-D789DC545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21B2-E974-4C3B-83E8-64DE0F950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704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5292720" y="836640"/>
            <a:ext cx="3851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Baskerville Old Face"/>
              </a:rPr>
              <a:t>«</a:t>
            </a:r>
            <a:r>
              <a:rPr b="1" i="1" lang="en-US" sz="3200" spc="-1" strike="noStrike">
                <a:solidFill>
                  <a:srgbClr val="990033"/>
                </a:solidFill>
                <a:latin typeface="Baskerville Old Face"/>
              </a:rPr>
              <a:t>Oh</a:t>
            </a:r>
            <a:r>
              <a:rPr b="1" i="1" lang="ru-RU" sz="3200" spc="-1" strike="noStrike">
                <a:solidFill>
                  <a:srgbClr val="990033"/>
                </a:solidFill>
                <a:latin typeface="Baskerville Old Face"/>
              </a:rPr>
              <a:t>! </a:t>
            </a:r>
            <a:r>
              <a:rPr b="1" i="1" lang="en-US" sz="3200" spc="-1" strike="noStrike">
                <a:solidFill>
                  <a:srgbClr val="990033"/>
                </a:solidFill>
                <a:latin typeface="Baskerville Old Face"/>
              </a:rPr>
              <a:t>You </a:t>
            </a:r>
            <a:r>
              <a:rPr b="1" i="1" lang="ru-RU" sz="3200" spc="-1" strike="noStrike">
                <a:solidFill>
                  <a:srgbClr val="990033"/>
                </a:solidFill>
                <a:latin typeface="Baskerville Old Face"/>
              </a:rPr>
              <a:t>!</a:t>
            </a:r>
            <a:r>
              <a:rPr b="1" i="1" lang="en-US" sz="3200" spc="-1" strike="noStrike">
                <a:solidFill>
                  <a:srgbClr val="990033"/>
                </a:solidFill>
                <a:latin typeface="Baskerville Old Face"/>
              </a:rPr>
              <a:t> Which wait for motherland from heart (depth) yourself…</a:t>
            </a:r>
            <a:r>
              <a:rPr b="1" i="1" lang="ru-RU" sz="3200" spc="-1" strike="noStrike">
                <a:solidFill>
                  <a:srgbClr val="990033"/>
                </a:solidFill>
                <a:latin typeface="Baskerville Old Face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24000" y="1528200"/>
            <a:ext cx="8485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Baskerville Old Face"/>
              </a:rPr>
              <a:t>To conceal</a:t>
            </a:r>
            <a:r>
              <a:rPr b="0" i="1" lang="ru-RU" sz="3200" spc="-1" strike="noStrike">
                <a:solidFill>
                  <a:srgbClr val="000000"/>
                </a:solidFill>
                <a:latin typeface="Baskerville Old Face"/>
              </a:rPr>
              <a:t> – скрывать, ута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Baskerville Old Face"/>
              </a:rPr>
              <a:t>A nobleman</a:t>
            </a:r>
            <a:r>
              <a:rPr b="0" i="1" lang="ru-RU" sz="3200" spc="-1" strike="noStrike">
                <a:solidFill>
                  <a:srgbClr val="000000"/>
                </a:solidFill>
                <a:latin typeface="Baskerville Old Face"/>
              </a:rPr>
              <a:t> – дворянин, аристок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Baskerville Old Face"/>
              </a:rPr>
              <a:t>To be appointed to</a:t>
            </a:r>
            <a:r>
              <a:rPr b="0" i="1" lang="ru-RU" sz="3200" spc="-1" strike="noStrike">
                <a:solidFill>
                  <a:srgbClr val="000000"/>
                </a:solidFill>
                <a:latin typeface="Baskerville Old Face"/>
              </a:rPr>
              <a:t> – быть назначенным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askerville Old Face"/>
              </a:rPr>
              <a:t>(долж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Baskerville Old Face"/>
              </a:rPr>
              <a:t>To found</a:t>
            </a:r>
            <a:r>
              <a:rPr b="0" i="1" lang="en-US" sz="3200" spc="-1" strike="noStrike">
                <a:solidFill>
                  <a:srgbClr val="000000"/>
                </a:solidFill>
                <a:latin typeface="Baskerville Old Face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Baskerville Old Face"/>
              </a:rPr>
              <a:t>осн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Baskerville Old Face"/>
              </a:rPr>
              <a:t>To enrich</a:t>
            </a:r>
            <a:r>
              <a:rPr b="0" i="1" lang="en-US" sz="3200" spc="-1" strike="noStrike">
                <a:solidFill>
                  <a:srgbClr val="000000"/>
                </a:solidFill>
                <a:latin typeface="Baskerville Old Face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Baskerville Old Face"/>
              </a:rPr>
              <a:t>обога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Baskerville Old Face"/>
              </a:rPr>
              <a:t>To forestall –</a:t>
            </a:r>
            <a:r>
              <a:rPr b="0" i="1" lang="ru-RU" sz="3200" spc="-1" strike="noStrike">
                <a:solidFill>
                  <a:srgbClr val="000000"/>
                </a:solidFill>
                <a:latin typeface="Baskerville Old Face"/>
              </a:rPr>
              <a:t> опер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Baskerville Old Face"/>
              </a:rPr>
              <a:t>Eventually </a:t>
            </a:r>
            <a:r>
              <a:rPr b="0" i="1" lang="ru-RU" sz="3200" spc="-1" strike="noStrike">
                <a:solidFill>
                  <a:srgbClr val="000000"/>
                </a:solidFill>
                <a:latin typeface="Baskerville Old Face"/>
              </a:rPr>
              <a:t>– в конце концов, в конечном ит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Baskerville Old Face"/>
              </a:rPr>
              <a:t>To be memorialized</a:t>
            </a:r>
            <a:r>
              <a:rPr b="0" i="1" lang="en-US" sz="3200" spc="-1" strike="noStrike">
                <a:solidFill>
                  <a:srgbClr val="000000"/>
                </a:solidFill>
                <a:latin typeface="Baskerville Old Face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Baskerville Old Face"/>
              </a:rPr>
              <a:t>увековечить</a:t>
            </a:r>
            <a:r>
              <a:rPr b="0" i="1" lang="en-US" sz="32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Baskerville Old Face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1280" y="692280"/>
            <a:ext cx="79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MT Poster Compressed"/>
              </a:rPr>
              <a:t>What were Lomonosov`s</a:t>
            </a:r>
            <a:r>
              <a:rPr b="0" lang="ru-RU" sz="6000" spc="-1" strike="noStrike">
                <a:solidFill>
                  <a:srgbClr val="000000"/>
                </a:solidFill>
                <a:latin typeface="Bodoni MT Poster Compressed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Bodoni MT Poster Compressed"/>
              </a:rPr>
              <a:t>professions</a:t>
            </a:r>
            <a:r>
              <a:rPr b="0" lang="ru-RU" sz="6000" spc="-1" strike="noStrike">
                <a:solidFill>
                  <a:srgbClr val="000000"/>
                </a:solidFill>
                <a:latin typeface="Bodoni MT Poster Compressed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50920" y="480960"/>
            <a:ext cx="889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askerville Old Face"/>
              </a:rPr>
              <a:t>Agree or disagree with the stat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Lomonosov was the son of a noblem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Lomonosov was always a brilliant stu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He was appointed to a physics position in 174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He founded a university in St. Petersbur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The first Russian grammar was written by Lomonosov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Lomonosov got only 1 medal from the Russian Academy of Sci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941640" y="639000"/>
            <a:ext cx="126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11280" y="979920"/>
            <a:ext cx="7991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askerville Old Face"/>
              </a:rPr>
              <a:t>1. It’s wrong. Lomonosov was the son of a fish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askerville Old Face"/>
              </a:rPr>
              <a:t>3. It’s wrong. He was appointed to a physics position in 174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askerville Old Face"/>
              </a:rPr>
              <a:t>4. It’s wrong. He tried, but failed to found a university in St. Petersbu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askerville Old Face"/>
              </a:rPr>
              <a:t>6. It’s wrong. Lomonosov got 2 medals from the Russian Academy of Sci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50920" y="300600"/>
            <a:ext cx="8893080" cy="59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askerville Old Face"/>
              </a:rPr>
              <a:t>Mikhail Vasilyevich Lomonosov was born on the 19th of November in 1711 near Kholmogory in Archangelskaya region (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askerville Old Face"/>
              </a:rPr>
              <a:t>He was the son of a fisherman, and he often worked with his father (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askerville Old Face"/>
              </a:rPr>
              <a:t>At the age of 19 the young man left his house and went on foot to Moscow to get education at the Academy(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askerville Old Face"/>
              </a:rPr>
              <a:t>As he proved to be a brilliant student, so in 1735, he was sent to the Gymnasium of the Academy of Sciences in St. Petersburg (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askerville Old Face"/>
              </a:rPr>
              <a:t>His discoveries and ideas enriched many branches of knowledge, forestalled the science of that time (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askerville Old Face"/>
              </a:rPr>
              <a:t>Lomonosov also wrote poetry, and the first Russian grammar was written by him as well (9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askerville Old Face"/>
              </a:rPr>
              <a:t>In 1755, he managed to found what now Moscow State University 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askerville Old Face"/>
              </a:rPr>
              <a:t>Lomonosov was a member of many Academies and got medals from them (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askerville Old Face"/>
              </a:rPr>
              <a:t>In 1765, Lomonosov caught a cold and died at the age of 54 (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askerville Old Face"/>
              </a:rPr>
              <a:t>He was a great patriot who loved his Motherland and wanted to make it a prosperous country (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7:22:30Z</dcterms:created>
  <dc:creator>SamLab.ws</dc:creator>
  <dc:description/>
  <dc:language>en-US</dc:language>
  <cp:lastModifiedBy>Наталья Леонидовна</cp:lastModifiedBy>
  <dcterms:modified xsi:type="dcterms:W3CDTF">2011-08-14T04:22:44Z</dcterms:modified>
  <cp:revision>5</cp:revision>
  <dc:subject/>
  <dc:title>Слайд 1</dc:title>
</cp:coreProperties>
</file>