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12.png" ContentType="image/png"/>
  <Override PartName="/ppt/media/image40.png" ContentType="image/png"/>
  <Override PartName="/ppt/media/image36.jpeg" ContentType="image/jpeg"/>
  <Override PartName="/ppt/media/image32.jpeg" ContentType="image/jpeg"/>
  <Override PartName="/ppt/media/image41.jpeg" ContentType="image/jpeg"/>
  <Override PartName="/ppt/media/image45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6.jpeg" ContentType="image/jpe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C70-E7A2-4482-B361-2A29FF8B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E88-08FC-4D1F-B292-3748B72E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742E4-5437-4676-B6FF-92B0A553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37881-1153-4D78-BC5C-79BAFDBB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AE600-7FC5-46D5-9856-53C76D67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7CA95-B2AD-4832-A97E-DABD3EE3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F70E9-F4C0-4E24-A766-6842EFCC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CC602-3FC2-4CE7-9635-1C2BBAD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8DFBD-D5C5-44D2-B2B4-C6C4A729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559D8-08FB-4F62-B1D1-D8EEEA82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7F5C5-5603-4E2F-B733-5F9653B1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A8AA3-C78F-4453-807D-546583E8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CCE-B45E-4A9C-B9B0-1EAA9D06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B5B8D-03A7-42B9-93BB-688D777F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7C608-408C-4DCA-A056-B73EB638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D1826-01EF-4B1A-A1DD-918FE54B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1288F-96D7-4920-A2B0-D1566529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7CC6B-3BFE-4CD4-AD9C-9BDEEBAD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DDFEE-61F1-43DB-A2B2-D3A6A4D1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98EE8-6571-4F68-BE8A-A5917150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C5290-DCE8-490F-84A2-1F389A25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31E47-DCD7-4394-9A31-7A6E6AB1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4B154-A104-4F9E-8AA5-58894F9B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E7D-9A45-4A35-AE1D-B2CFC160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B65E7-5D2C-425B-B1A8-605310FE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B7E00-83D1-4451-A8F2-34642878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54C67-AE00-4AE8-A130-0EB1AAA9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AC724-2CE7-46C7-B441-306B000C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A16A5-D171-421F-B081-D2773DD4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842A7-2F56-4BB5-858C-71A80A59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DC018-CCAB-40F0-9030-0A7D8113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3C5D5-160D-4355-A720-CBAD435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DCB94-C1B5-42F4-B8F9-EEAC6A17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5ED89-A48C-44D8-91AD-4C2E4F85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F76C-CEBC-4046-80A2-A1C76074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02F03-AF20-438C-9401-28D1A837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095CC-A153-4AA4-8D87-E3FFFB9E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A355C-7E98-4FE3-9602-22887509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905BC-EF19-40C2-AB8F-EF89075F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8B6C4-F51F-4AB3-90D7-37BDA3BC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33D2F-B723-45C4-96DF-B8B7775A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237D4-F2D2-4CDF-95B6-3EEF137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D99EE-2A28-4137-82E3-49CB5B9E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13429-C284-4190-ACE0-E2F31590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2AB2A-14ED-4C2F-B01A-7D0CB7B4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97C1-0084-41D7-84FC-609E8AC3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A2618-5382-4D6F-97B6-57C67309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6B099-5734-4DCD-83BC-72B37599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1410E-9A42-4E44-9145-A32B1943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52CFF-14B1-4C02-AB77-E6489DAA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5DA12-B1C2-41AA-A0BA-17DE57E6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5F3506-30DC-4D25-8D11-450F3018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2A0A23-E399-43E7-A803-00108DA6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7426DD-06F5-4005-8C89-9CE970F7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73BB0D-20C1-4EE3-96F3-3BACFE27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79648F-4080-42DE-9BD7-4718DC9D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C873-06C9-4DB3-B866-85063175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7DD9C5-FFC5-4156-A2EF-67B6AFEE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9ACC4B-4575-49E7-9138-BF32E566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97BDC9-19CF-492B-B95F-D7F664EE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1AE378-688C-472B-9111-7B52E98D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A26532-DC32-43FA-B1A1-B6FC9E13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C63B9B-5F8E-44AD-A17E-9571385D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7AF789-B0C5-47F1-87F7-818B42BC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8068-809F-4280-9065-DD9F3607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C2A6-1E9A-46B6-BA36-1CBFFE19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8A03-395D-43AE-B696-3956113B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276B-106D-4F52-8F37-EAF439F2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96E-9013-4ACA-B9F0-D53D6925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9EA0-2462-43D1-9A07-D8C5D79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2538-06E6-4328-83F4-3AD875A7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F10D-A45F-4DBE-9022-6B774E01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C0D5-F8F1-42B9-9337-E4BFE21F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4BBD-4B5B-4CDC-B66C-AF97E785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F3EE-6FB5-4633-A50B-E5C113F9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0403-C5C8-46DD-B009-B673D779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E238-0873-4D53-94AF-44A90C08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CA2B-A5C3-44DB-9C83-F7FBACB1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AC35-C9F4-4EA4-B5AE-B209C15A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DD5-D459-4BF7-ABB2-DC30AEA7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38BE-6110-45AC-B5E7-8FD21A51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CDD25-8383-483C-A9EF-77E63307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32CC-E541-4156-B617-2E7CB839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74E4-8CD2-4A56-BC59-F5A0D78B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CC70-EFEC-4446-BAF0-827732E0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65A8-4A83-48D2-A532-8AB39DB4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9553-D9D1-4106-8CEA-0561A8A3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5FADC-471B-40ED-BB5C-45813548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39B5E-4A7C-4C86-A34A-4257ABE0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A779-D16A-4443-ABB0-6A681203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30D-FDD4-4464-B5A5-8152C7CE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1CE8-1FE6-4F1F-9AAB-B6A4111E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157B8-B812-4447-B919-1390C252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869CE-B97E-470D-A3DC-BB77312A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2D1DA-4C7B-42B3-A2A3-EEE6A1A3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05E5-4A50-4DC6-9756-BFA422D3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C89E5-B82C-454C-B74F-D85A2329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1AF8-E3CC-412D-93AB-905B9A63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D950-550C-479B-974E-0E225FCF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F36D5-DCE2-4665-BE85-155D5BBF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E53CA-7F8A-414F-A060-F8900F99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DF7-B56E-4417-820F-180764F7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95500-9061-4689-9F86-534FF542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A229C-6787-47DB-85CE-10535383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E221E-375C-4905-B0F5-723FB828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8BDAE-21F5-460C-9EFC-3C49B454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09035-D55C-485E-9717-DD6ACD88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8EC1-1BE9-4F16-A67C-B7B6ADC1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19A68-17DC-4139-AECB-83470F9D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9D30A-EC4F-4198-A1A4-C37907B8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C45B6-7CF2-4B1D-8E15-815DC55C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09E1-3057-47F7-BA4F-D8311468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E0A-7166-4534-8BD8-3A5060B2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5CBF5-6527-40E8-ACF4-FCF123AF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B35E2-3E88-4330-AA31-C1FC82C2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F7C6-D75A-434D-AF6D-744C278D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6BAF6-981B-4263-9C3A-756515A4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F12A4-923E-427A-9E5C-9A9D7A84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1C81-6EE9-4041-9B26-87B5F9A6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513B9-5D85-459C-9254-1BE1E73D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5D122-A1C8-4CB0-A68F-F61B11FF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45897-DBCD-4736-9B46-6E46DB5E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E12FD-B331-488F-B4A0-CCC7A381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B8C-4E98-41FF-870C-715B49F9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28CFA-4568-482A-9B87-3431B999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365D4-DB8C-4683-878F-BDC5671B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4FCBE-9776-415B-8839-332BC31D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1D12-E6C1-4AE0-92C8-FE32FA64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A5B7E-8C06-45E7-93B4-FD9BF8EC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D25B0-69AA-42E4-A825-5648992B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16B69-B14F-4605-945F-70D99D5E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C1590-B407-4E7D-88E1-A325019C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53F49-4EAE-4B25-B259-569E5D4F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D42AA-2DB2-4BDD-B190-099E812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534-C54D-405B-9707-B829D586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B00DA-D73E-434E-9D8C-C2CAAEFB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9AF09-F5BC-4CD6-A5DD-433849D5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A3F94-E26F-4898-A1A9-26D9E8E3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CB2CF-2FCF-4DBF-997B-16034846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93356-F92A-4088-AB63-45DE7417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6B7C9-EE3F-47DB-97DF-7C2C6A52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4DB8F-0578-4078-8BB6-18B1E576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4E023-045E-46FE-BE46-0478046F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D1F08-35D1-4043-91D2-C0421870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67DA5-FAEA-4A8D-84C7-7C4CFB82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F42-2E83-40BD-8885-6BF93B3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364C3-D407-4526-8199-EABD2E45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C5967-57C4-4CD4-9438-658C9F8A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AD502-AEDB-4D80-939A-78A241A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9E1E2-B69E-44EE-A36F-B0A2C8E6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2E54-BB7F-4E30-ABC9-41A31B32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A50D5-8626-4E39-91BE-C276A3C1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0C4ED-6989-4DDE-A2E7-F2FE73F0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0ECC0-5D27-450F-B608-E5B312A0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4A12C-985E-43BA-BB20-37ABED4F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08537-54A6-4D4B-B825-430EC328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A127-D0DE-4651-81D9-05BEA8230E3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7200"/>
            <a:ext cx="1104840" cy="6891840"/>
            <a:chOff x="0" y="-7200"/>
            <a:chExt cx="1104840" cy="689184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0800" y="2885400"/>
              <a:ext cx="6888600" cy="110340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2240" y="2909160"/>
              <a:ext cx="6867720" cy="108288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9061-D1BD-40DB-A84A-D6BD2AD46A9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1D34-BBDB-4488-9832-B466BB2378D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7F3A-1D0F-4DD0-BD2C-EBBCAA58EE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006D-757D-4791-88FA-C09D86AEDA1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97E4-EB2B-4C09-A81D-89A53A1A116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A7E9-1C7E-4F77-9946-CF8B95D4FAA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2339-5957-46E7-A819-73DCBEBC14D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C13F-C65C-4A3F-BB28-46C054F5177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6C9F-1B61-444B-B6EA-DEBB7309C7A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892E-3CE2-4EC2-AC97-394024200D6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AB46-DEBF-4EBD-B8E3-2FF9F254CA1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7200"/>
            <a:ext cx="1104840" cy="6891840"/>
            <a:chOff x="0" y="-7200"/>
            <a:chExt cx="1104840" cy="689184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0800" y="2885400"/>
              <a:ext cx="6888600" cy="110340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2240" y="2909160"/>
              <a:ext cx="6867720" cy="108288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D633-415A-4ACF-8F43-E5A1DA240A6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7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hyperlink" Target="file:///&#1086;&#1089;&#1090;&#1088;&#1086;&#1074;%20&#1061;&#1091;&#1076;&#1086;&#1078;&#1085;&#1080;&#1082;&#1086;&#1074;.pptx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4179600" y="1599840"/>
            <a:ext cx="4964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ЛОМОНОС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ихаил Васильевич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одился 8(19).11.171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деревне Мишанинская Куростровской волости Двинского уезда Архангельской губерн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3" name="Rectangle 2" descr=""/>
          <p:cNvPicPr/>
          <p:nvPr/>
        </p:nvPicPr>
        <p:blipFill>
          <a:blip r:embed="rId1"/>
          <a:stretch/>
        </p:blipFill>
        <p:spPr>
          <a:xfrm>
            <a:off x="603360" y="615960"/>
            <a:ext cx="8339040" cy="11160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lomonosov"/>
          <p:cNvPicPr/>
          <p:nvPr/>
        </p:nvPicPr>
        <p:blipFill>
          <a:blip r:embed="rId2"/>
          <a:stretch/>
        </p:blipFill>
        <p:spPr>
          <a:xfrm>
            <a:off x="250920" y="836640"/>
            <a:ext cx="3871800" cy="51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-360" y="142884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тинным поэтом Ломоносов был в тех случаях , когда в стихах касался “любезного отечества”. В его торжественных одах прослеживаются темы Родины, науки и ми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омоносов является преобразователем литературного языка и стиха. Важнейшими трудами этого рода Ломоносова были : “Российская грамматика”, “Рассуждение о пользе книги церковной в российском языке” и “Письмо о правилах российского стихотворства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4" name="Заголовок 2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242560" cy="1358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" descr="F:\информатика\мероприятие\портрет\129183_image_large.jpg"/>
          <p:cNvPicPr/>
          <p:nvPr/>
        </p:nvPicPr>
        <p:blipFill>
          <a:blip r:embed="rId2"/>
          <a:stretch/>
        </p:blipFill>
        <p:spPr>
          <a:xfrm>
            <a:off x="5229360" y="1143000"/>
            <a:ext cx="391464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4" descr="F:\информатика\мероприятие\Без им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87" name="Заголовок 2" descr=""/>
          <p:cNvPicPr/>
          <p:nvPr/>
        </p:nvPicPr>
        <p:blipFill>
          <a:blip r:embed="rId2"/>
          <a:stretch/>
        </p:blipFill>
        <p:spPr>
          <a:xfrm>
            <a:off x="493560" y="208080"/>
            <a:ext cx="8242560" cy="115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3" descr="F:\информатика\мероприятие\остров\green-island-wallpaper.jpg"/>
          <p:cNvPicPr/>
          <p:nvPr/>
        </p:nvPicPr>
        <p:blipFill>
          <a:blip r:embed="rId1"/>
          <a:srcRect l="0" t="0" r="2098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457200" y="18018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0" name="Рисунок 9" descr=""/>
          <p:cNvPicPr/>
          <p:nvPr/>
        </p:nvPicPr>
        <p:blipFill>
          <a:blip r:embed="rId3"/>
          <a:srcRect l="28219" t="24656" r="43721" b="41070"/>
          <a:stretch/>
        </p:blipFill>
        <p:spPr>
          <a:xfrm>
            <a:off x="1143000" y="428760"/>
            <a:ext cx="6357960" cy="621324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2"/>
          <p:cNvSpPr/>
          <p:nvPr/>
        </p:nvSpPr>
        <p:spPr>
          <a:xfrm>
            <a:off x="307800" y="5916600"/>
            <a:ext cx="27648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AutoShape 4"/>
          <p:cNvCxnSpPr/>
          <p:nvPr/>
        </p:nvCxnSpPr>
        <p:spPr>
          <a:xfrm flipV="1">
            <a:off x="3374640" y="5078160"/>
            <a:ext cx="1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3" name="AutoShape 9"/>
          <p:cNvCxnSpPr/>
          <p:nvPr/>
        </p:nvCxnSpPr>
        <p:spPr>
          <a:xfrm flipH="1" flipV="1">
            <a:off x="2346480" y="3296880"/>
            <a:ext cx="514440" cy="18201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4" name="AutoShape 10"/>
          <p:cNvCxnSpPr/>
          <p:nvPr/>
        </p:nvCxnSpPr>
        <p:spPr>
          <a:xfrm>
            <a:off x="2869920" y="5116320"/>
            <a:ext cx="127656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5" name="AutoShape 11"/>
          <p:cNvCxnSpPr/>
          <p:nvPr/>
        </p:nvCxnSpPr>
        <p:spPr>
          <a:xfrm flipV="1">
            <a:off x="4146120" y="5115960"/>
            <a:ext cx="125820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6" name="AutoShape 16"/>
          <p:cNvCxnSpPr/>
          <p:nvPr/>
        </p:nvCxnSpPr>
        <p:spPr>
          <a:xfrm flipV="1">
            <a:off x="5403960" y="3696480"/>
            <a:ext cx="496080" cy="1420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7" name="AutoShape 5"/>
          <p:cNvCxnSpPr/>
          <p:nvPr/>
        </p:nvCxnSpPr>
        <p:spPr>
          <a:xfrm>
            <a:off x="1793520" y="3020760"/>
            <a:ext cx="2096280" cy="1067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8" name="AutoShape 6"/>
          <p:cNvCxnSpPr/>
          <p:nvPr/>
        </p:nvCxnSpPr>
        <p:spPr>
          <a:xfrm flipV="1">
            <a:off x="3889080" y="3563640"/>
            <a:ext cx="2524680" cy="5241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99" name="AutoShape 7"/>
          <p:cNvCxnSpPr/>
          <p:nvPr/>
        </p:nvCxnSpPr>
        <p:spPr>
          <a:xfrm flipH="1" flipV="1">
            <a:off x="4393440" y="2020680"/>
            <a:ext cx="2019960" cy="15436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0" name="AutoShape 8"/>
          <p:cNvCxnSpPr/>
          <p:nvPr/>
        </p:nvCxnSpPr>
        <p:spPr>
          <a:xfrm flipH="1">
            <a:off x="1841040" y="2021040"/>
            <a:ext cx="2553120" cy="1000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1" name="AutoShape 12"/>
          <p:cNvCxnSpPr/>
          <p:nvPr/>
        </p:nvCxnSpPr>
        <p:spPr>
          <a:xfrm flipH="1">
            <a:off x="2088360" y="3297240"/>
            <a:ext cx="258120" cy="1286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2" name="AutoShape 13"/>
          <p:cNvCxnSpPr/>
          <p:nvPr/>
        </p:nvCxnSpPr>
        <p:spPr>
          <a:xfrm flipH="1">
            <a:off x="1841040" y="4583160"/>
            <a:ext cx="248400" cy="53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3" name="AutoShape 14"/>
          <p:cNvCxnSpPr/>
          <p:nvPr/>
        </p:nvCxnSpPr>
        <p:spPr>
          <a:xfrm>
            <a:off x="1841040" y="5116320"/>
            <a:ext cx="5058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4" name="AutoShape 15"/>
          <p:cNvCxnSpPr/>
          <p:nvPr/>
        </p:nvCxnSpPr>
        <p:spPr>
          <a:xfrm flipH="1" flipV="1">
            <a:off x="2088360" y="4582800"/>
            <a:ext cx="258120" cy="53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Рисунок 21" descr=""/>
          <p:cNvPicPr/>
          <p:nvPr/>
        </p:nvPicPr>
        <p:blipFill>
          <a:blip r:embed="rId4"/>
          <a:srcRect l="28219" t="24656" r="43721" b="41070"/>
          <a:stretch/>
        </p:blipFill>
        <p:spPr>
          <a:xfrm>
            <a:off x="1143000" y="285840"/>
            <a:ext cx="6715080" cy="6286320"/>
          </a:xfrm>
          <a:prstGeom prst="rect">
            <a:avLst/>
          </a:prstGeom>
          <a:ln w="0">
            <a:noFill/>
          </a:ln>
        </p:spPr>
      </p:pic>
      <p:pic>
        <p:nvPicPr>
          <p:cNvPr id="708" name="Заголовок 2" descr=""/>
          <p:cNvPicPr/>
          <p:nvPr/>
        </p:nvPicPr>
        <p:blipFill>
          <a:blip r:embed="rId5"/>
          <a:stretch/>
        </p:blipFill>
        <p:spPr>
          <a:xfrm>
            <a:off x="-6480" y="-237960"/>
            <a:ext cx="9163080" cy="14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4857840" y="1143000"/>
            <a:ext cx="428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понятия о химическом элемен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я первой в России химической лаборатор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0" name="Заголовок 2" descr=""/>
          <p:cNvPicPr/>
          <p:nvPr/>
        </p:nvPicPr>
        <p:blipFill>
          <a:blip r:embed="rId1"/>
          <a:stretch/>
        </p:blipFill>
        <p:spPr>
          <a:xfrm>
            <a:off x="360360" y="-79200"/>
            <a:ext cx="8618400" cy="12315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" descr="химич лаболатория"/>
          <p:cNvPicPr/>
          <p:nvPr/>
        </p:nvPicPr>
        <p:blipFill>
          <a:blip r:embed="rId2"/>
          <a:stretch/>
        </p:blipFill>
        <p:spPr>
          <a:xfrm>
            <a:off x="69840" y="1214280"/>
            <a:ext cx="4859280" cy="3346560"/>
          </a:xfrm>
          <a:prstGeom prst="rect">
            <a:avLst/>
          </a:prstGeom>
          <a:ln w="0">
            <a:noFill/>
          </a:ln>
        </p:spPr>
      </p:pic>
      <p:sp>
        <p:nvSpPr>
          <p:cNvPr id="712" name="Прямоугольник 4"/>
          <p:cNvSpPr/>
          <p:nvPr/>
        </p:nvSpPr>
        <p:spPr>
          <a:xfrm>
            <a:off x="285840" y="528624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новой области естествознания – физической хим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0" y="128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ория строения материи. Механическая теория тепло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ты в области электричества. «Теория электричества, разработанная математическим способом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4" name="Заголовок 2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375760" cy="13586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F:\информатика\мероприятие\яхта\1722140_%D0%E8%F1%F3%ED%EE%EA 1.jpg"/>
          <p:cNvPicPr/>
          <p:nvPr/>
        </p:nvPicPr>
        <p:blipFill>
          <a:blip r:embed="rId2"/>
          <a:stretch/>
        </p:blipFill>
        <p:spPr>
          <a:xfrm>
            <a:off x="3286080" y="3857760"/>
            <a:ext cx="2462400" cy="246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0" y="1213920"/>
            <a:ext cx="4857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ты по оптике (усовершенствование микроскопа и телескопа, создание новых мореходных и оптических приборов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ытие атмосферы на Венер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8" name="Picture 2" descr="F:\информатика\мероприятие\яхта\p24_sun-system.jpg"/>
          <p:cNvPicPr/>
          <p:nvPr/>
        </p:nvPicPr>
        <p:blipFill>
          <a:blip r:embed="rId1"/>
          <a:stretch/>
        </p:blipFill>
        <p:spPr>
          <a:xfrm>
            <a:off x="4857840" y="357120"/>
            <a:ext cx="3792600" cy="26053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F:\информатика\мероприятие\портрет\image003.jpg"/>
          <p:cNvPicPr/>
          <p:nvPr/>
        </p:nvPicPr>
        <p:blipFill>
          <a:blip r:embed="rId2"/>
          <a:stretch/>
        </p:blipFill>
        <p:spPr>
          <a:xfrm flipH="1" rot="251400">
            <a:off x="5486040" y="2811240"/>
            <a:ext cx="2768760" cy="360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F:\информатика\мероприятие\остров\1937.jpg"/>
          <p:cNvPicPr/>
          <p:nvPr/>
        </p:nvPicPr>
        <p:blipFill>
          <a:blip r:embed="rId1"/>
          <a:stretch/>
        </p:blipFill>
        <p:spPr>
          <a:xfrm>
            <a:off x="-1714680" y="-428760"/>
            <a:ext cx="11658960" cy="7286760"/>
          </a:xfrm>
          <a:prstGeom prst="rect">
            <a:avLst/>
          </a:prstGeom>
          <a:ln w="0">
            <a:noFill/>
          </a:ln>
        </p:spPr>
      </p:pic>
      <p:pic>
        <p:nvPicPr>
          <p:cNvPr id="721" name="Заголовок 2" descr=""/>
          <p:cNvPicPr/>
          <p:nvPr/>
        </p:nvPicPr>
        <p:blipFill>
          <a:blip r:embed="rId2"/>
          <a:stretch/>
        </p:blipFill>
        <p:spPr>
          <a:xfrm>
            <a:off x="450720" y="-237960"/>
            <a:ext cx="8242560" cy="14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5" descr="F:\информатика\мероприятие\яхта\путь.jpg"/>
          <p:cNvPicPr/>
          <p:nvPr/>
        </p:nvPicPr>
        <p:blipFill>
          <a:blip r:embed="rId1"/>
          <a:srcRect l="16669" t="14063" r="0" b="0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723" name="Прямоугольник 6" descr=""/>
          <p:cNvPicPr/>
          <p:nvPr/>
        </p:nvPicPr>
        <p:blipFill>
          <a:blip r:embed="rId2"/>
          <a:stretch/>
        </p:blipFill>
        <p:spPr>
          <a:xfrm>
            <a:off x="2567160" y="-390600"/>
            <a:ext cx="7600680" cy="35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F:\информатика\мероприятие\яхта\путь.jpg"/>
          <p:cNvPicPr/>
          <p:nvPr/>
        </p:nvPicPr>
        <p:blipFill>
          <a:blip r:embed="rId1"/>
          <a:srcRect l="16669" t="14063" r="0" b="0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656" name="Прямоугольник 6" descr=""/>
          <p:cNvPicPr/>
          <p:nvPr/>
        </p:nvPicPr>
        <p:blipFill>
          <a:blip r:embed="rId2"/>
          <a:stretch/>
        </p:blipFill>
        <p:spPr>
          <a:xfrm>
            <a:off x="2567160" y="-390600"/>
            <a:ext cx="7600680" cy="3597480"/>
          </a:xfrm>
          <a:prstGeom prst="rect">
            <a:avLst/>
          </a:prstGeom>
          <a:ln w="0">
            <a:noFill/>
          </a:ln>
        </p:spPr>
      </p:pic>
      <p:sp>
        <p:nvSpPr>
          <p:cNvPr id="657" name="Прямоугольник 3"/>
          <p:cNvSpPr/>
          <p:nvPr/>
        </p:nvSpPr>
        <p:spPr>
          <a:xfrm>
            <a:off x="5072040" y="6858000"/>
            <a:ext cx="507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усыпный труд все препятствия преодоле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В. 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98058E-006 L -0.11145 -0.91586 E">
                                      <p:cBhvr>
                                        <p:cTn id="11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5" descr="F:\информатика\мероприятие\остров\05050611334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0" name="Заголовок 2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G:\информатика\4\урок 12 Исполнитель алгоритмов Художник\4642223_hudoznik_kopij.jpg"/>
          <p:cNvPicPr/>
          <p:nvPr/>
        </p:nvPicPr>
        <p:blipFill>
          <a:blip r:embed="rId3"/>
          <a:stretch/>
        </p:blipFill>
        <p:spPr>
          <a:xfrm rot="1102800">
            <a:off x="3131640" y="2616120"/>
            <a:ext cx="5254920" cy="35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50920" y="1790640"/>
            <a:ext cx="50641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3" name="Rectangle 2" descr=""/>
          <p:cNvPicPr/>
          <p:nvPr/>
        </p:nvPicPr>
        <p:blipFill>
          <a:blip r:embed="rId1"/>
          <a:stretch/>
        </p:blipFill>
        <p:spPr>
          <a:xfrm>
            <a:off x="847800" y="-128520"/>
            <a:ext cx="8508960" cy="12556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ломоносов"/>
          <p:cNvPicPr/>
          <p:nvPr/>
        </p:nvPicPr>
        <p:blipFill>
          <a:blip r:embed="rId2"/>
          <a:stretch/>
        </p:blipFill>
        <p:spPr>
          <a:xfrm>
            <a:off x="179280" y="1557360"/>
            <a:ext cx="3897360" cy="482436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4572000" y="1700280"/>
            <a:ext cx="4176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луги Ломоносова широко известны , одна из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 тайн античной мозаики, изготовление  смальт  (непрозрачное стекло) и изготовление из нее кусочков па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5" descr="F:\информатика\мероприятие\остров\05050611334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8" name="Заголовок 2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G:\информатика\4\урок 12 Исполнитель алгоритмов Художник\4642223_hudoznik_kopij.jpg">
            <a:hlinkClick r:id="rId3"/>
          </p:cNvPr>
          <p:cNvPicPr/>
          <p:nvPr/>
        </p:nvPicPr>
        <p:blipFill>
          <a:blip r:embed="rId4"/>
          <a:stretch/>
        </p:blipFill>
        <p:spPr>
          <a:xfrm rot="1102800">
            <a:off x="3131640" y="2616120"/>
            <a:ext cx="5254920" cy="35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857160" y="642960"/>
            <a:ext cx="7904160" cy="5964120"/>
          </a:xfrm>
          <a:prstGeom prst="rect">
            <a:avLst/>
          </a:prstGeom>
          <a:ln w="0">
            <a:noFill/>
          </a:ln>
        </p:spPr>
      </p:pic>
      <p:pic>
        <p:nvPicPr>
          <p:cNvPr id="671" name="Заголовок 2" descr=""/>
          <p:cNvPicPr/>
          <p:nvPr/>
        </p:nvPicPr>
        <p:blipFill>
          <a:blip r:embed="rId2"/>
          <a:stretch/>
        </p:blipFill>
        <p:spPr>
          <a:xfrm>
            <a:off x="566640" y="993600"/>
            <a:ext cx="8242560" cy="115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457200" y="18018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3" name="Заголовок 2" descr=""/>
          <p:cNvPicPr/>
          <p:nvPr/>
        </p:nvPicPr>
        <p:blipFill>
          <a:blip r:embed="rId2"/>
          <a:stretch/>
        </p:blipFill>
        <p:spPr>
          <a:xfrm>
            <a:off x="450720" y="-152280"/>
            <a:ext cx="8242560" cy="1358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5" descr=""/>
          <p:cNvPicPr/>
          <p:nvPr/>
        </p:nvPicPr>
        <p:blipFill>
          <a:blip r:embed="rId3"/>
          <a:srcRect l="26368" t="32226" r="22656" b="23098"/>
          <a:stretch/>
        </p:blipFill>
        <p:spPr>
          <a:xfrm>
            <a:off x="571680" y="1143000"/>
            <a:ext cx="7858080" cy="551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Прямоугольник 4"/>
          <p:cNvSpPr/>
          <p:nvPr/>
        </p:nvSpPr>
        <p:spPr>
          <a:xfrm>
            <a:off x="1714680" y="2286000"/>
            <a:ext cx="5643360" cy="2143080"/>
          </a:xfrm>
          <a:prstGeom prst="rect">
            <a:avLst/>
          </a:pr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71760" y="2857680"/>
            <a:ext cx="585792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ерзайте отчизну мужеством прославить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7" name="Заголовок 2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242560" cy="13586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"/>
          <p:cNvPicPr/>
          <p:nvPr/>
        </p:nvPicPr>
        <p:blipFill>
          <a:blip r:embed="rId2"/>
          <a:srcRect l="25783" t="44679" r="21484" b="15772"/>
          <a:stretch/>
        </p:blipFill>
        <p:spPr>
          <a:xfrm>
            <a:off x="142920" y="1428840"/>
            <a:ext cx="8858160" cy="531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F:\информатика\мероприятие\остров\green-island-wallpaper.jpg"/>
          <p:cNvPicPr/>
          <p:nvPr/>
        </p:nvPicPr>
        <p:blipFill>
          <a:blip r:embed="rId1"/>
          <a:srcRect l="0" t="0" r="2098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57200" y="1801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1" name="Вертикальный свиток 5"/>
          <p:cNvSpPr/>
          <p:nvPr/>
        </p:nvSpPr>
        <p:spPr>
          <a:xfrm flipH="1" rot="1437000">
            <a:off x="3894840" y="802800"/>
            <a:ext cx="5124600" cy="54964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ДА НА ДЕНЬ ВОСШЕСТВИЯ НА ВСЕРОССИЙСКИЙ ПРЕСТОЛ ЕЕ ВЕЛИЧЕСТВА ГОСУДАРЫНИ ИМПЕРАТРИЦЫ ЕЛИСАВЕТЫ ПЕТРОВНЫ 1747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 вы, которых ожид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ечество от недр 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видеть таковых жел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их зовет от стран чужи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, ваши дни благословен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рзайте ныне ободре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Заголовок 2" descr=""/>
          <p:cNvPicPr/>
          <p:nvPr/>
        </p:nvPicPr>
        <p:blipFill>
          <a:blip r:embed="rId3"/>
          <a:stretch/>
        </p:blipFill>
        <p:spPr>
          <a:xfrm>
            <a:off x="-139680" y="566640"/>
            <a:ext cx="557064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9:55:01Z</dcterms:created>
  <dc:creator>ольга</dc:creator>
  <dc:description/>
  <dc:language>en-US</dc:language>
  <cp:lastModifiedBy>lala</cp:lastModifiedBy>
  <dcterms:modified xsi:type="dcterms:W3CDTF">2011-01-27T20:46:19Z</dcterms:modified>
  <cp:revision>86</cp:revision>
  <dc:subject/>
  <dc:title>МОЗАИКА</dc:title>
</cp:coreProperties>
</file>