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878B-02CC-4D1E-8D5F-BF1996BC62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1A3B-A612-4A66-858C-4CE6705348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БРИКА ЛОМОНОС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10B6-BAB6-4BCE-865C-79B2E43BFC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A304-EEB8-46D3-B186-906127D1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433-53F4-46A3-9D44-DB08B91F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EDB-332B-4BBD-B6CE-1A05A7C8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E65-6683-4AE4-9E81-ECA8D1A5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EFE-0821-4FAD-BE1E-364D0782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D23A-440C-4C48-93D6-C34A2B0D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CE1-C3AD-4EF6-954F-5315612C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44A-B46F-4964-A9CE-77F93B31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9E57-CF78-47F9-AA7D-B671A62D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903-8DAD-48C6-B2A9-1742ADB8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4A9F-9E06-40BD-B66E-F980FD27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1BA-F9AC-4BB2-96FF-53CB99C2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86E5-FD9E-414B-B3A6-C577D91848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4932360" y="1197000"/>
            <a:ext cx="385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МИХАИЛ ВАСИЛЬ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ЛОМОНО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(1711 – 176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MCj02900630000[1]"/>
          <p:cNvPicPr/>
          <p:nvPr/>
        </p:nvPicPr>
        <p:blipFill>
          <a:blip r:embed="rId1"/>
          <a:stretch/>
        </p:blipFill>
        <p:spPr>
          <a:xfrm>
            <a:off x="5715000" y="4076640"/>
            <a:ext cx="1969920" cy="252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Рисунок3"/>
          <p:cNvPicPr/>
          <p:nvPr/>
        </p:nvPicPr>
        <p:blipFill>
          <a:blip r:embed="rId2"/>
          <a:stretch/>
        </p:blipFill>
        <p:spPr>
          <a:xfrm>
            <a:off x="755640" y="765000"/>
            <a:ext cx="3571920" cy="46864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042920" y="549360"/>
            <a:ext cx="74278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Усть-Рудицкая фабрика"/>
          <p:cNvPicPr/>
          <p:nvPr/>
        </p:nvPicPr>
        <p:blipFill>
          <a:blip r:embed="rId1"/>
          <a:stretch/>
        </p:blipFill>
        <p:spPr>
          <a:xfrm>
            <a:off x="3924360" y="2421000"/>
            <a:ext cx="4724280" cy="3747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фабрика Ломоносова"/>
          <p:cNvPicPr/>
          <p:nvPr/>
        </p:nvPicPr>
        <p:blipFill>
          <a:blip r:embed="rId2"/>
          <a:stretch/>
        </p:blipFill>
        <p:spPr>
          <a:xfrm>
            <a:off x="179280" y="1557360"/>
            <a:ext cx="3961080" cy="22827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1478520" y="47628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ФАБРИКА ЛОМОНОС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534960" y="401760"/>
            <a:ext cx="829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МОЗАИЧНЫЕ КАРТИНЫ ЛОМОНО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ломоносов и екатерина"/>
          <p:cNvPicPr/>
          <p:nvPr/>
        </p:nvPicPr>
        <p:blipFill>
          <a:blip r:embed="rId1"/>
          <a:stretch/>
        </p:blipFill>
        <p:spPr>
          <a:xfrm>
            <a:off x="1042920" y="1125360"/>
            <a:ext cx="7129440" cy="4824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23640" y="6165720"/>
            <a:ext cx="85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.В.Ломоносов показывает свои работы императр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250920" y="6066000"/>
            <a:ext cx="84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етр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портрет петра1"/>
          <p:cNvPicPr/>
          <p:nvPr/>
        </p:nvPicPr>
        <p:blipFill>
          <a:blip r:embed="rId1"/>
          <a:stretch/>
        </p:blipFill>
        <p:spPr>
          <a:xfrm>
            <a:off x="2771640" y="1052640"/>
            <a:ext cx="3894120" cy="5184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2600" y="263520"/>
            <a:ext cx="913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МОЗАИЧНЫЕ РАБОТЫ  М.В. ЛОМОНО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мозаика"/>
          <p:cNvPicPr/>
          <p:nvPr/>
        </p:nvPicPr>
        <p:blipFill>
          <a:blip r:embed="rId1"/>
          <a:stretch/>
        </p:blipFill>
        <p:spPr>
          <a:xfrm>
            <a:off x="250920" y="1268280"/>
            <a:ext cx="4032000" cy="4753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395280" y="260280"/>
            <a:ext cx="8497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3581640" cy="4824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2844360" y="623556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лтавская бата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МОЗАИЧНЫЕ РАБОТЫ  М.В. ЛОМОНО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684360" y="5445000"/>
            <a:ext cx="80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 проекту Ломоносова был основ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осковский университ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188360" y="258840"/>
            <a:ext cx="70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МОСКОВСКИЙ УНИВЕРСИТ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264360" cy="4322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1778040" cy="30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slide0003_image008"/>
          <p:cNvPicPr/>
          <p:nvPr/>
        </p:nvPicPr>
        <p:blipFill>
          <a:blip r:embed="rId1"/>
          <a:stretch/>
        </p:blipFill>
        <p:spPr>
          <a:xfrm>
            <a:off x="1403280" y="1341360"/>
            <a:ext cx="6407280" cy="4125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0" y="40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ДЕТ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219680" y="5734080"/>
            <a:ext cx="73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еревня Мишанинская Архангель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40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ДЕТ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User\Рабочий стол\Ломоносов\zal1_img.jpg"/>
          <p:cNvPicPr/>
          <p:nvPr/>
        </p:nvPicPr>
        <p:blipFill>
          <a:blip r:embed="rId1"/>
          <a:stretch/>
        </p:blipFill>
        <p:spPr>
          <a:xfrm>
            <a:off x="1042920" y="1341360"/>
            <a:ext cx="7129440" cy="43038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1105560" y="5950080"/>
            <a:ext cx="71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"Быт поморской семьи 18в.", художник Румянцев А. 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845440" y="258840"/>
            <a:ext cx="39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ПУТЬ В МОСК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путь в москву"/>
          <p:cNvPicPr/>
          <p:nvPr/>
        </p:nvPicPr>
        <p:blipFill>
          <a:blip r:embed="rId1"/>
          <a:stretch/>
        </p:blipFill>
        <p:spPr>
          <a:xfrm>
            <a:off x="250920" y="1268280"/>
            <a:ext cx="4103640" cy="518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Text Box 8"/>
          <p:cNvSpPr/>
          <p:nvPr/>
        </p:nvSpPr>
        <p:spPr>
          <a:xfrm>
            <a:off x="1262160" y="256536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олмог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333440" y="58053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"/>
          <p:cNvSpPr/>
          <p:nvPr/>
        </p:nvSpPr>
        <p:spPr>
          <a:xfrm rot="21102000">
            <a:off x="3276720" y="2636640"/>
            <a:ext cx="649080" cy="431640"/>
          </a:xfrm>
          <a:prstGeom prst="leftArrow">
            <a:avLst>
              <a:gd name="adj1" fmla="val 50000"/>
              <a:gd name="adj2" fmla="val 3759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в москву"/>
          <p:cNvPicPr/>
          <p:nvPr/>
        </p:nvPicPr>
        <p:blipFill>
          <a:blip r:embed="rId2"/>
          <a:stretch/>
        </p:blipFill>
        <p:spPr>
          <a:xfrm>
            <a:off x="4716360" y="1197000"/>
            <a:ext cx="415476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06 0.037 C -0.04184 0.05596 -0.04341 0.06335 -0.03664 0.077 C -0.03612 0.07908 -0.03629 0.08185 -0.03507 0.08347 C -0.03386 0.08509 -0.03178 0.08439 -0.03021 0.08555 C -0.02691 0.08786 -0.02396 0.0911 -0.02084 0.09387 C -0.01806 0.09642 -0.01615 0.10104 -0.01441 0.10451 C -0.01146 0.11676 -0.01112 0.12994 -0.00973 0.14266 C -0.01094 0.1778 -0.00348 0.18844 -0.02553 0.1933 C -0.03212 0.1963 -0.03612 0.20301 -0.04306 0.20601 C -0.04896 0.21133 -0.0533 0.21711 -0.0573 0.22497 C -0.05921 0.2326 -0.0632 0.25734 -0.06841 0.26312 C -0.06945 0.26428 -0.07917 0.26705 -0.07952 0.26728 C -0.08264 0.27006 -0.08594 0.27306 -0.08907 0.27584 C -0.09046 0.277 -0.08994 0.28 -0.09063 0.28208 C -0.09341 0.28948 -0.09358 0.28833 -0.09862 0.29272 C -0.10539 0.32 -0.08698 0.37642 -0.10799 0.38567 C -0.11007 0.38983 -0.11164 0.39468 -0.11441 0.39838 C -0.11598 0.40046 -0.11771 0.40231 -0.1191 0.40463 C -0.12796 0.41989 -0.12119 0.41549 -0.13021 0.41942 C -0.13681 0.42821 -0.14254 0.43885 -0.14775 0.44902 C -0.14966 0.45272 -0.15105 0.45734 -0.15417 0.45965 C -0.15816 0.46266 -0.16962 0.46359 -0.17153 0.46382 C -0.17917 0.46752 -0.18716 0.47399 -0.19219 0.48301 C -0.19445 0.48717 -0.19862 0.49572 -0.19862 0.49572 E">
                                      <p:cBhvr>
                                        <p:cTn id="6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774160" y="187200"/>
            <a:ext cx="44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УЧЁБА В МОСК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Рисунок1"/>
          <p:cNvPicPr/>
          <p:nvPr/>
        </p:nvPicPr>
        <p:blipFill>
          <a:blip r:embed="rId1"/>
          <a:stretch/>
        </p:blipFill>
        <p:spPr>
          <a:xfrm>
            <a:off x="4716360" y="981000"/>
            <a:ext cx="4110120" cy="568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ломоносов"/>
          <p:cNvPicPr/>
          <p:nvPr/>
        </p:nvPicPr>
        <p:blipFill>
          <a:blip r:embed="rId2"/>
          <a:stretch/>
        </p:blipFill>
        <p:spPr>
          <a:xfrm>
            <a:off x="611280" y="981000"/>
            <a:ext cx="288288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6"/>
          <p:cNvSpPr/>
          <p:nvPr/>
        </p:nvSpPr>
        <p:spPr>
          <a:xfrm>
            <a:off x="324000" y="62064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УЧЕБА В САНКТ-ПЕТЕРБУР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624720" cy="4233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3708360" y="47592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УЧЕБА В ГЕРМ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Рисунок5"/>
          <p:cNvPicPr/>
          <p:nvPr/>
        </p:nvPicPr>
        <p:blipFill>
          <a:blip r:embed="rId1"/>
          <a:stretch/>
        </p:blipFill>
        <p:spPr>
          <a:xfrm>
            <a:off x="4356000" y="1628640"/>
            <a:ext cx="3405240" cy="4921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slide0012_image024"/>
          <p:cNvPicPr/>
          <p:nvPr/>
        </p:nvPicPr>
        <p:blipFill>
          <a:blip r:embed="rId2"/>
          <a:stretch/>
        </p:blipFill>
        <p:spPr>
          <a:xfrm>
            <a:off x="395280" y="404640"/>
            <a:ext cx="3183120" cy="51850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334520" y="331920"/>
            <a:ext cx="57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ЛОМОНОСОВ - УЧЕ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lomonosov"/>
          <p:cNvPicPr/>
          <p:nvPr/>
        </p:nvPicPr>
        <p:blipFill>
          <a:blip r:embed="rId1"/>
          <a:stretch/>
        </p:blipFill>
        <p:spPr>
          <a:xfrm rot="21192000">
            <a:off x="723600" y="1823760"/>
            <a:ext cx="3219480" cy="44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11" descr="ломоносов"/>
          <p:cNvPicPr/>
          <p:nvPr/>
        </p:nvPicPr>
        <p:blipFill>
          <a:blip r:embed="rId2"/>
          <a:stretch/>
        </p:blipFill>
        <p:spPr>
          <a:xfrm>
            <a:off x="4932360" y="1413000"/>
            <a:ext cx="349560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42920" y="549360"/>
            <a:ext cx="74278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350x280"/>
          <p:cNvPicPr/>
          <p:nvPr/>
        </p:nvPicPr>
        <p:blipFill>
          <a:blip r:embed="rId1"/>
          <a:stretch/>
        </p:blipFill>
        <p:spPr>
          <a:xfrm>
            <a:off x="4067280" y="2708280"/>
            <a:ext cx="4897440" cy="391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6"/>
          <p:cNvSpPr/>
          <p:nvPr/>
        </p:nvSpPr>
        <p:spPr>
          <a:xfrm>
            <a:off x="1042920" y="549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ЛОМОНОСОВ - УЧЕ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лабор"/>
          <p:cNvPicPr/>
          <p:nvPr/>
        </p:nvPicPr>
        <p:blipFill>
          <a:blip r:embed="rId2"/>
          <a:stretch/>
        </p:blipFill>
        <p:spPr>
          <a:xfrm>
            <a:off x="179280" y="1413000"/>
            <a:ext cx="4445280" cy="3060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5:54:22Z</dcterms:created>
  <dc:creator>Qweds</dc:creator>
  <dc:description/>
  <dc:language>en-US</dc:language>
  <cp:lastModifiedBy>Admin</cp:lastModifiedBy>
  <dcterms:modified xsi:type="dcterms:W3CDTF">2011-02-13T16:13:51Z</dcterms:modified>
  <cp:revision>25</cp:revision>
  <dc:subject/>
  <dc:title>МИХАИЛ ВАСИЛЬЕВИЧ ЛОМОНСОВ</dc:title>
</cp:coreProperties>
</file>